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E62-88DF-4ED8-A3B6-5F606C69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648-FF85-4A9A-8D31-FB39A11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387-3983-4665-A1DE-DEE2A939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953-8826-461F-826F-2A27D034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2FC-5CFB-4F3C-8053-D4BDF2EB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F591-2F35-45E8-8ECB-99E1AA93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242-156B-4155-AA73-9B9BDA1E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9B4-7DA2-42B5-A876-9BDC08F1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DA3-7AE4-40BB-8E80-62644A9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DF4-EE31-41ED-9DEC-C725EC9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FBD-E882-43D6-A548-F6339E9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416-2CFE-4EED-BE22-B7FE6839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911C-D99D-4EEB-B1EA-DA94150E5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 Dad, Poor 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One:The Rich Don’t Work For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pter 2 of Rich Dad, Poor Dad starts off with Robert having a real father who is a school principal. Who has a safe and secure jobs, but a lot of bills to pa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bert asks his dad how to become rich, because his rich friend’s family didn’t invite him to go to the get away with them because he was considered “poor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dad tells him to use his head, so he and his friend Mike, make a business, collecting empty toothpaste tubes and making nickle out of them. When his dad sees, then he tells them how that its illegal and their hopes are destroy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bert’s dad tells him to talk to Mike’s dad, because he is a businessman and knows how to make mone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at the 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nd Mike get hired by Mike’s dad, whom Robert refers to as “rich dad,” and they work for 10 cents a day for 3 hrs every Satu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working about 3 weeks, they feel fed up because they work hard and get underpaid, so Robert goes to talk to “rich dad” for a raise or he q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hting Temp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ad offers $1 to $5 raise for Robert and Mike to work for him, but they fight the temptation and disa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ad then tells them that they have to work fo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and Mike agree to this, even though they don’t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The R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’s when, “rich dad” teaches them that’s how normal employees act and react. That they just get a job, and if its not enough money, blame the problem on their employers instead of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dad tries to teach them lifelong lessons about how to let money work for them, instead of working for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For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and Robert work for free for about another 3 weeks, and they keep on doing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Dad talks to them later on about how he realized they have ambition because they are able to fight greed and temp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A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le working, Robert and Mike came up with a brilliant idea, seeing that one of the employers keeps half the cover of the comic books, and throws away the res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obert and Mike make an agreement with the comic book distrubtor to keep the comic books, but not resell th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leads to Robert and Mike’s first business, which is a comic book libra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keep it open 2 hrs a day, and each kid has to pay 10 cents per visit, and can read as many comic book as they wa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also hire Mike’s sister to be their secretary and keep track of finance and expen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nd Mike, tried to branch out, but couldn’t because they really trusted Mike’s sister. That’s when they learn how hard it is to find and hire good employ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and Mike’s business is closed, because of bullies who forced themselves inside the comic book library and breaking out a fight. So, rich dad recommends to close it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teaches them lessons that how greed is what leads people to dragging themselves out of bed and going to a job they h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r is also a factor, the fear of losing mo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03:54Z</dcterms:created>
  <dc:creator>Info Tech</dc:creator>
  <dc:description/>
  <dc:language>en-US</dc:language>
  <cp:lastModifiedBy>Info Tech</cp:lastModifiedBy>
  <dcterms:modified xsi:type="dcterms:W3CDTF">2009-03-26T15:08:57Z</dcterms:modified>
  <cp:revision>6</cp:revision>
  <dc:subject/>
  <dc:title>Rich Dad, Poor Dad</dc:title>
</cp:coreProperties>
</file>